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BC29-0DD7-47E0-BB1F-BA563D2DA4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8F1C-4AD0-45C5-8EE7-D6DFC10F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9727-F8CC-4AE5-9246-84B10F0D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E381-5A6B-4C42-895A-F786243B49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C9B-A532-4132-9183-720473795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65B-8311-4B71-9496-E890FBC2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6BB-EC89-42D0-9D83-9F34D4AF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515-CDE2-413F-8EC7-905B82FC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9CA-A2CE-4C30-AD77-BEF9C375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4AC-0592-49EC-84BB-E5FA76F3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685-954C-4972-AFC9-6A9CEE27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6F4A-8E68-4EA2-ABEC-6A5392D1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EC8-9C06-47C3-9101-16824BEA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4C2-5F40-40A1-9093-A1FC6D5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7C6-B082-4069-9E46-5A2EF5DC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572-A2C3-4C0A-A667-A1B4D83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E8D-A8EC-482D-83CB-1C949BAB05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B6B9-FFDA-4583-9973-D5F239EB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1EF5-CB89-41BF-B857-BF5F78AA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5EA0-AAFB-4B3E-984F-6DD8B614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9C6D-E540-4FB4-A123-B22ABEC2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D066-6770-4852-8DE3-7C808A50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1FD1-896B-422E-AAD1-58510663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7C6C-5DE9-4A94-874A-61A51AF7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B648-ED79-45BB-8B97-B05F732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D93A-4C43-4A06-89DA-CEA9A585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87D5-69EF-4A0C-B969-BE1B9A1E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6A77-16EB-4BDE-8C56-0C1A6295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EC09-4C34-4B31-8DA1-61994F25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A6B9-EE99-437E-AB8E-A9BAB93F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AFDE-1061-4301-A6AD-055D4A4C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7C6E-FC16-4BEF-9DB9-8C7A2FF6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BDF3-63F9-45B1-8A5A-386387ED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17A0-D4E2-4F62-B180-ADDD9256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D869-F06E-478E-A735-B44A081A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5B7D-F88B-4FDA-A0D7-7DE9ABEE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0C4E-1322-4A7E-9BDE-FF4351880F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99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56" descr=""/>
          <p:cNvPicPr/>
          <p:nvPr/>
        </p:nvPicPr>
        <p:blipFill>
          <a:blip r:embed="rId6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1371600" y="231120"/>
            <a:ext cx="2133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43D5-0661-4112-A5B4-205A7CEB74E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ril 29-3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367-2F21-4D0D-BFB6-862317418A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7"/>
          </p:nvPr>
        </p:nvSpPr>
        <p:spPr>
          <a:xfrm>
            <a:off x="2438280" y="6629040"/>
            <a:ext cx="4267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5 Technical Consulting Meeting for EMR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dfgroup.uiuc.edu/RFC/HDF5/hdf-java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 to HDF5</a:t>
            </a:r>
            <a:br>
              <a:rPr sz="48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ession Four</a:t>
            </a:r>
            <a:br>
              <a:rPr sz="3600"/>
            </a:br>
            <a:br>
              <a:rPr sz="36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ava Products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9E38-A1E8-496D-8FFE-4C959072E63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 Package: Basic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D8AE-BFE2-47EA-B3EA-0E6A8272AE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lowchart: Magnetic Disk 26"/>
          <p:cNvSpPr/>
          <p:nvPr/>
        </p:nvSpPr>
        <p:spPr>
          <a:xfrm>
            <a:off x="3809880" y="914400"/>
            <a:ext cx="1295640" cy="838080"/>
          </a:xfrm>
          <a:prstGeom prst="flowChartMagneticDisk">
            <a:avLst/>
          </a:prstGeom>
          <a:solidFill>
            <a:srgbClr val="e0c2a3"/>
          </a:solidFill>
          <a:ln w="93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ube 18"/>
          <p:cNvSpPr/>
          <p:nvPr/>
        </p:nvSpPr>
        <p:spPr>
          <a:xfrm>
            <a:off x="4800600" y="2666880"/>
            <a:ext cx="1295280" cy="91440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734d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lowchart: Multidocument 28"/>
          <p:cNvSpPr/>
          <p:nvPr/>
        </p:nvSpPr>
        <p:spPr>
          <a:xfrm>
            <a:off x="2514600" y="2514600"/>
            <a:ext cx="1371600" cy="1066680"/>
          </a:xfrm>
          <a:prstGeom prst="flowChartMultidocument">
            <a:avLst/>
          </a:prstGeom>
          <a:solidFill>
            <a:srgbClr val="bde2e9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lowchart: Off-page Connector 31"/>
          <p:cNvSpPr/>
          <p:nvPr/>
        </p:nvSpPr>
        <p:spPr>
          <a:xfrm>
            <a:off x="3505320" y="4648320"/>
            <a:ext cx="1066680" cy="685800"/>
          </a:xfrm>
          <a:prstGeom prst="flowChartOffpageConnector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lowchart: Off-page Connector 32"/>
          <p:cNvSpPr/>
          <p:nvPr/>
        </p:nvSpPr>
        <p:spPr>
          <a:xfrm>
            <a:off x="6095880" y="3886200"/>
            <a:ext cx="1067040" cy="685800"/>
          </a:xfrm>
          <a:prstGeom prst="flowChartOffpageConnector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3"/>
          <p:cNvSpPr/>
          <p:nvPr/>
        </p:nvSpPr>
        <p:spPr>
          <a:xfrm>
            <a:off x="380880" y="594216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hdfgroup.org/hdf-java-html/hdf-objec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43"/>
          <p:cNvCxnSpPr>
            <a:stCxn id="236" idx="0"/>
            <a:endCxn id="235" idx="2"/>
          </p:cNvCxnSpPr>
          <p:nvPr/>
        </p:nvCxnSpPr>
        <p:spPr>
          <a:xfrm flipH="1" flipV="1">
            <a:off x="3104280" y="3541320"/>
            <a:ext cx="934200" cy="1107360"/>
          </a:xfrm>
          <a:prstGeom prst="straightConnector1">
            <a:avLst/>
          </a:prstGeom>
          <a:ln w="1260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cxnSp>
        <p:nvCxnSpPr>
          <p:cNvPr id="240" name="Straight Arrow Connector 46"/>
          <p:cNvCxnSpPr>
            <a:stCxn id="236" idx="0"/>
            <a:endCxn id="234" idx="3"/>
          </p:cNvCxnSpPr>
          <p:nvPr/>
        </p:nvCxnSpPr>
        <p:spPr>
          <a:xfrm flipV="1">
            <a:off x="4037400" y="3580920"/>
            <a:ext cx="1296360" cy="1067760"/>
          </a:xfrm>
          <a:prstGeom prst="straightConnector1">
            <a:avLst/>
          </a:prstGeom>
          <a:ln w="1260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cxnSp>
        <p:nvCxnSpPr>
          <p:cNvPr id="241" name="Straight Arrow Connector 50"/>
          <p:cNvCxnSpPr>
            <a:stCxn id="237" idx="0"/>
            <a:endCxn id="234" idx="5"/>
          </p:cNvCxnSpPr>
          <p:nvPr/>
        </p:nvCxnSpPr>
        <p:spPr>
          <a:xfrm flipH="1" flipV="1">
            <a:off x="6095520" y="3009600"/>
            <a:ext cx="534240" cy="876960"/>
          </a:xfrm>
          <a:prstGeom prst="straightConnector1">
            <a:avLst/>
          </a:prstGeom>
          <a:ln w="12600">
            <a:solidFill>
              <a:srgbClr val="c00000"/>
            </a:solidFill>
            <a:prstDash val="sysDash"/>
            <a:miter/>
            <a:tailEnd len="med" type="triangle" w="med"/>
          </a:ln>
        </p:spPr>
      </p:cxnSp>
      <p:sp>
        <p:nvSpPr>
          <p:cNvPr id="242" name="Oval 23"/>
          <p:cNvSpPr/>
          <p:nvPr/>
        </p:nvSpPr>
        <p:spPr>
          <a:xfrm>
            <a:off x="1371600" y="2057400"/>
            <a:ext cx="6705720" cy="36576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Straight Arrow Connector 68"/>
          <p:cNvCxnSpPr>
            <a:stCxn id="233" idx="3"/>
            <a:endCxn id="235" idx="0"/>
          </p:cNvCxnSpPr>
          <p:nvPr/>
        </p:nvCxnSpPr>
        <p:spPr>
          <a:xfrm flipH="1">
            <a:off x="3293280" y="1752120"/>
            <a:ext cx="1164600" cy="7628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44" name="Straight Arrow Connector 71"/>
          <p:cNvCxnSpPr>
            <a:stCxn id="233" idx="3"/>
            <a:endCxn id="234" idx="0"/>
          </p:cNvCxnSpPr>
          <p:nvPr/>
        </p:nvCxnSpPr>
        <p:spPr>
          <a:xfrm>
            <a:off x="4456800" y="1752480"/>
            <a:ext cx="1105560" cy="915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F38B-57C0-48C4-8141-AFFB5F58B1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891200" cy="56419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609480" y="2057400"/>
            <a:ext cx="2895840" cy="3200400"/>
          </a:xfrm>
          <a:prstGeom prst="rect">
            <a:avLst/>
          </a:prstGeom>
          <a:solidFill>
            <a:srgbClr val="a6a6a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3505320" y="2057400"/>
            <a:ext cx="4876560" cy="3200400"/>
          </a:xfrm>
          <a:prstGeom prst="rect">
            <a:avLst/>
          </a:prstGeom>
          <a:solidFill>
            <a:srgbClr val="a6a6a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609480" y="5410080"/>
            <a:ext cx="7772400" cy="838440"/>
          </a:xfrm>
          <a:prstGeom prst="rect">
            <a:avLst/>
          </a:prstGeom>
          <a:solidFill>
            <a:srgbClr val="a6a6a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ations of HDF-Java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upport for HDF5 API routines with callb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DF5 datatype features not suppor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signed integer data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sted compound datatype cre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VM resource limits can restrict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“low priority” C API routines not cover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f81bd"/>
                </a:solidFill>
                <a:uFillTx/>
                <a:latin typeface="Calibri"/>
                <a:hlinkClick r:id="rId1"/>
              </a:rPr>
              <a:t>http://www.hdfgroup.uiuc.edu/RFC/HDF5/hdf-jav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vel” C API routines not cover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mension scales, Images, Tabl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F4BB-06F9-456F-A029-90345ED26C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Dimensions in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 arrays map directly from Java to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oat a = new float[100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-Dimensional arrays ( &gt; 1D) are arrays o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oat b = new float[100][10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ed, but very slow curr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ggest using 1-D array for I/O and mapping to multi-D in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BB38-8190-4C5A-8B86-7B99B2A802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1D68-07F0-4FCE-986E-C98C06B13C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" descr="C:\Users\Administrator\AppData\Local\Microsoft\Windows\Temporary Internet Files\Content.IE5\YFS9K5HA\MC900289001[1].wmf"/>
          <p:cNvPicPr/>
          <p:nvPr/>
        </p:nvPicPr>
        <p:blipFill>
          <a:blip r:embed="rId1"/>
          <a:stretch/>
        </p:blipFill>
        <p:spPr>
          <a:xfrm>
            <a:off x="2840040" y="2305080"/>
            <a:ext cx="345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Java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AE17-E3CD-4C2B-949B-EFD8BC42B2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333440" y="2678040"/>
            <a:ext cx="1620720" cy="1143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</p:pic>
      <p:sp>
        <p:nvSpPr>
          <p:cNvPr id="144" name="Oval 6"/>
          <p:cNvSpPr/>
          <p:nvPr/>
        </p:nvSpPr>
        <p:spPr>
          <a:xfrm>
            <a:off x="1562040" y="2906640"/>
            <a:ext cx="1200240" cy="709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untitled"/>
          <p:cNvPicPr/>
          <p:nvPr/>
        </p:nvPicPr>
        <p:blipFill>
          <a:blip r:embed="rId2"/>
          <a:stretch/>
        </p:blipFill>
        <p:spPr>
          <a:xfrm>
            <a:off x="6210360" y="2678040"/>
            <a:ext cx="143172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3772080" y="2602080"/>
            <a:ext cx="1600200" cy="120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</p:pic>
      <p:sp>
        <p:nvSpPr>
          <p:cNvPr id="147" name="TextBox 9"/>
          <p:cNvSpPr/>
          <p:nvPr/>
        </p:nvSpPr>
        <p:spPr>
          <a:xfrm>
            <a:off x="1465920" y="38973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018320" y="389736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388560" y="3897360"/>
            <a:ext cx="11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Wrapper or Native Libra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6A4B-9A1D-4DB8-828A-0430C28145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lowchart: Magnetic Disk 17"/>
          <p:cNvSpPr/>
          <p:nvPr/>
        </p:nvSpPr>
        <p:spPr>
          <a:xfrm>
            <a:off x="3733920" y="5257800"/>
            <a:ext cx="1218960" cy="11430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Straight Arrow Connector 26"/>
          <p:cNvCxnSpPr>
            <a:endCxn id="155" idx="0"/>
          </p:cNvCxnSpPr>
          <p:nvPr/>
        </p:nvCxnSpPr>
        <p:spPr>
          <a:xfrm flipH="1">
            <a:off x="2514240" y="1872720"/>
            <a:ext cx="1867680" cy="1251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5" name="Flowchart: Document 11"/>
          <p:cNvSpPr/>
          <p:nvPr/>
        </p:nvSpPr>
        <p:spPr>
          <a:xfrm>
            <a:off x="1676520" y="3124080"/>
            <a:ext cx="1676160" cy="990720"/>
          </a:xfrm>
          <a:prstGeom prst="flowChartDocument">
            <a:avLst/>
          </a:prstGeom>
          <a:solidFill>
            <a:srgbClr val="c7a2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1066680" cy="861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45612">
                <a:alpha val="75000"/>
              </a:srgbClr>
            </a:outerShdw>
          </a:effectLst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3733920" y="990720"/>
            <a:ext cx="1295280" cy="88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45612"/>
            </a:outerShdw>
          </a:effectLst>
        </p:spPr>
      </p:pic>
      <p:cxnSp>
        <p:nvCxnSpPr>
          <p:cNvPr id="158" name="Straight Arrow Connector 10"/>
          <p:cNvCxnSpPr>
            <a:stCxn id="155" idx="2"/>
            <a:endCxn id="153" idx="1"/>
          </p:cNvCxnSpPr>
          <p:nvPr/>
        </p:nvCxnSpPr>
        <p:spPr>
          <a:xfrm>
            <a:off x="2514600" y="4049640"/>
            <a:ext cx="1829520" cy="1208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9" name="Straight Arrow Connector 23"/>
          <p:cNvCxnSpPr/>
          <p:nvPr/>
        </p:nvCxnSpPr>
        <p:spPr>
          <a:xfrm>
            <a:off x="4381560" y="1873080"/>
            <a:ext cx="1867680" cy="1099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5562720" y="2971800"/>
            <a:ext cx="137160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45612"/>
            </a:outerShdw>
          </a:effectLst>
        </p:spPr>
      </p:pic>
      <p:sp>
        <p:nvSpPr>
          <p:cNvPr id="161" name="Oval 13"/>
          <p:cNvSpPr/>
          <p:nvPr/>
        </p:nvSpPr>
        <p:spPr>
          <a:xfrm>
            <a:off x="5638680" y="3124080"/>
            <a:ext cx="1200240" cy="709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lowchart: Multidocument 38"/>
          <p:cNvSpPr/>
          <p:nvPr/>
        </p:nvSpPr>
        <p:spPr>
          <a:xfrm>
            <a:off x="5791320" y="3809880"/>
            <a:ext cx="761760" cy="533520"/>
          </a:xfrm>
          <a:prstGeom prst="flowChartMultidocument">
            <a:avLst/>
          </a:prstGeom>
          <a:solidFill>
            <a:srgbClr val="dde8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Straight Arrow Connector 15"/>
          <p:cNvCxnSpPr>
            <a:stCxn id="162" idx="2"/>
            <a:endCxn id="153" idx="1"/>
          </p:cNvCxnSpPr>
          <p:nvPr/>
        </p:nvCxnSpPr>
        <p:spPr>
          <a:xfrm flipH="1">
            <a:off x="4343040" y="4322520"/>
            <a:ext cx="1776960" cy="935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4" name="Rectangle 16"/>
          <p:cNvSpPr/>
          <p:nvPr/>
        </p:nvSpPr>
        <p:spPr>
          <a:xfrm>
            <a:off x="6553080" y="3886200"/>
            <a:ext cx="213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3471"/>
                </a:solidFill>
                <a:latin typeface="Times New Roman"/>
              </a:rPr>
              <a:t>a programming framework that allows Java code to call and be called by applications and libraries written in other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1381680" y="44956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CDF-Java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0" descr="C:\Users\xcao\AppData\Local\Microsoft\Windows\Temporary Internet Files\Content.IE5\P8U1ZYJT\MCj04348590000[1].png"/>
          <p:cNvPicPr/>
          <p:nvPr/>
        </p:nvPicPr>
        <p:blipFill>
          <a:blip r:embed="rId4"/>
          <a:stretch/>
        </p:blipFill>
        <p:spPr>
          <a:xfrm>
            <a:off x="4114800" y="30481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e Java Libr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D079-7BC1-4152-BEF8-9098BE23C2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0" y="1447920"/>
            <a:ext cx="1828800" cy="4419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438280" y="1295280"/>
            <a:ext cx="6553440" cy="2133720"/>
          </a:xfrm>
          <a:prstGeom prst="rect">
            <a:avLst/>
          </a:prstGeom>
          <a:solidFill>
            <a:srgbClr val="bc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 platform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access to file (no data conversion between C and Ja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lowchart: Magnetic Disk 6"/>
          <p:cNvSpPr/>
          <p:nvPr/>
        </p:nvSpPr>
        <p:spPr>
          <a:xfrm>
            <a:off x="533520" y="4800600"/>
            <a:ext cx="990360" cy="91440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Straight Arrow Connector 7"/>
          <p:cNvCxnSpPr>
            <a:endCxn id="174" idx="0"/>
          </p:cNvCxnSpPr>
          <p:nvPr/>
        </p:nvCxnSpPr>
        <p:spPr>
          <a:xfrm flipH="1">
            <a:off x="988200" y="2557440"/>
            <a:ext cx="3960" cy="72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4" name="Flowchart: Document 8"/>
          <p:cNvSpPr/>
          <p:nvPr/>
        </p:nvSpPr>
        <p:spPr>
          <a:xfrm>
            <a:off x="304920" y="3276720"/>
            <a:ext cx="1371600" cy="838080"/>
          </a:xfrm>
          <a:prstGeom prst="flowChartDocument">
            <a:avLst/>
          </a:prstGeom>
          <a:solidFill>
            <a:srgbClr val="c7a2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35000" y="1828800"/>
            <a:ext cx="922320" cy="7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45612">
                <a:alpha val="75000"/>
              </a:srgbClr>
            </a:outerShdw>
          </a:effectLst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1066680" cy="727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45612"/>
            </a:outerShdw>
          </a:effectLst>
        </p:spPr>
      </p:pic>
      <p:cxnSp>
        <p:nvCxnSpPr>
          <p:cNvPr id="177" name="Straight Arrow Connector 11"/>
          <p:cNvCxnSpPr>
            <a:stCxn id="174" idx="2"/>
            <a:endCxn id="172" idx="1"/>
          </p:cNvCxnSpPr>
          <p:nvPr/>
        </p:nvCxnSpPr>
        <p:spPr>
          <a:xfrm>
            <a:off x="990720" y="4059000"/>
            <a:ext cx="38880" cy="741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8" name="Rectangle 5"/>
          <p:cNvSpPr/>
          <p:nvPr/>
        </p:nvSpPr>
        <p:spPr>
          <a:xfrm>
            <a:off x="2438280" y="4038480"/>
            <a:ext cx="6705720" cy="182880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bstantial amount of work to support existing features in the C libra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plicates development effort in 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 J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1010-A317-43B0-BE84-6471A59DD8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0" y="1447920"/>
            <a:ext cx="1828800" cy="4419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438280" y="1676520"/>
            <a:ext cx="6400800" cy="2098440"/>
          </a:xfrm>
          <a:prstGeom prst="rect">
            <a:avLst/>
          </a:prstGeom>
          <a:solidFill>
            <a:srgbClr val="bc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to keep up with the library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lowchart: Magnetic Disk 13"/>
          <p:cNvSpPr/>
          <p:nvPr/>
        </p:nvSpPr>
        <p:spPr>
          <a:xfrm>
            <a:off x="609480" y="4876920"/>
            <a:ext cx="990720" cy="83808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6520" cy="70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45612">
                <a:alpha val="75000"/>
              </a:srgbClr>
            </a:outerShdw>
          </a:effectLst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1052280" cy="717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45612"/>
            </a:outerShdw>
          </a:effectLst>
        </p:spPr>
      </p:pic>
      <p:cxnSp>
        <p:nvCxnSpPr>
          <p:cNvPr id="187" name="Straight Arrow Connector 19"/>
          <p:cNvCxnSpPr/>
          <p:nvPr/>
        </p:nvCxnSpPr>
        <p:spPr>
          <a:xfrm>
            <a:off x="1059480" y="2393640"/>
            <a:ext cx="30600" cy="959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533520" y="3352680"/>
            <a:ext cx="1114200" cy="74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45612"/>
            </a:outerShdw>
          </a:effectLst>
        </p:spPr>
      </p:pic>
      <p:sp>
        <p:nvSpPr>
          <p:cNvPr id="189" name="Oval 12"/>
          <p:cNvSpPr/>
          <p:nvPr/>
        </p:nvSpPr>
        <p:spPr>
          <a:xfrm>
            <a:off x="609480" y="3429000"/>
            <a:ext cx="974880" cy="520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Straight Arrow Connector 24"/>
          <p:cNvCxnSpPr>
            <a:endCxn id="184" idx="1"/>
          </p:cNvCxnSpPr>
          <p:nvPr/>
        </p:nvCxnSpPr>
        <p:spPr>
          <a:xfrm>
            <a:off x="1090440" y="4095720"/>
            <a:ext cx="15120" cy="781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1" name="Rectangle 5"/>
          <p:cNvSpPr/>
          <p:nvPr/>
        </p:nvSpPr>
        <p:spPr>
          <a:xfrm>
            <a:off x="2286000" y="3886200"/>
            <a:ext cx="6629400" cy="182880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s data conversion between C and Ja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JNI is platform depen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AD8C-CF73-47B5-8D12-2930902840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6"/>
          <p:cNvSpPr/>
          <p:nvPr/>
        </p:nvSpPr>
        <p:spPr>
          <a:xfrm>
            <a:off x="4572000" y="2133720"/>
            <a:ext cx="4038480" cy="1828800"/>
          </a:xfrm>
          <a:prstGeom prst="rect">
            <a:avLst/>
          </a:prstGeom>
          <a:solidFill>
            <a:srgbClr val="bde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04920" y="2133720"/>
            <a:ext cx="3962160" cy="182880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37160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45612"/>
            </a:outerShdw>
          </a:effectLst>
        </p:spPr>
      </p:pic>
      <p:sp>
        <p:nvSpPr>
          <p:cNvPr id="198" name="Oval 8"/>
          <p:cNvSpPr/>
          <p:nvPr/>
        </p:nvSpPr>
        <p:spPr>
          <a:xfrm>
            <a:off x="1295280" y="2666880"/>
            <a:ext cx="1200240" cy="709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lowchart: Multidocument 12"/>
          <p:cNvSpPr/>
          <p:nvPr/>
        </p:nvSpPr>
        <p:spPr>
          <a:xfrm>
            <a:off x="5638680" y="2438280"/>
            <a:ext cx="1905120" cy="1219320"/>
          </a:xfrm>
          <a:prstGeom prst="flowChartMultidocument">
            <a:avLst/>
          </a:pr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N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Straight Arrow Connector 19"/>
          <p:cNvCxnSpPr>
            <a:endCxn id="199" idx="1"/>
          </p:cNvCxnSpPr>
          <p:nvPr/>
        </p:nvCxnSpPr>
        <p:spPr>
          <a:xfrm>
            <a:off x="2590920" y="3048120"/>
            <a:ext cx="3048480" cy="2160"/>
          </a:xfrm>
          <a:prstGeom prst="straightConnector1">
            <a:avLst/>
          </a:prstGeom>
          <a:ln w="101520">
            <a:solidFill>
              <a:srgbClr val="ff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201" name="TextBox 11"/>
          <p:cNvSpPr/>
          <p:nvPr/>
        </p:nvSpPr>
        <p:spPr>
          <a:xfrm>
            <a:off x="1604880" y="14479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8a54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58"/>
          <p:cNvSpPr/>
          <p:nvPr/>
        </p:nvSpPr>
        <p:spPr>
          <a:xfrm>
            <a:off x="6172200" y="1371600"/>
            <a:ext cx="4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1454040" y="49528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8a54"/>
                </a:solidFill>
                <a:latin typeface="Times New Roman"/>
              </a:rPr>
              <a:t>H5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5791320" y="4876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h5Imp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80680" y="152280"/>
            <a:ext cx="7464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Wrapper: File Open in Java and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3633-4C3A-497B-A11A-7CF6584AC0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4525920" y="2590920"/>
            <a:ext cx="4419720" cy="3124080"/>
          </a:xfrm>
          <a:prstGeom prst="rect">
            <a:avLst/>
          </a:prstGeom>
          <a:solidFill>
            <a:srgbClr val="bde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58840" y="2590920"/>
            <a:ext cx="4114800" cy="31240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4678200" y="2743200"/>
            <a:ext cx="426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d_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H5Fop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 char *na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signed flag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d_t access_id 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258840" y="2743200"/>
            <a:ext cx="427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na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i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H5Fop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ing na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 flag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 access_i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1559160" y="152388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8a54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6126120" y="144792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26"/>
          <p:cNvCxnSpPr/>
          <p:nvPr/>
        </p:nvCxnSpPr>
        <p:spPr>
          <a:xfrm>
            <a:off x="3840120" y="4114800"/>
            <a:ext cx="1372320" cy="2160"/>
          </a:xfrm>
          <a:prstGeom prst="straightConnector1">
            <a:avLst/>
          </a:prstGeom>
          <a:ln w="25560">
            <a:solidFill>
              <a:srgbClr val="00b050"/>
            </a:solidFill>
            <a:prstDash val="sysDot"/>
            <a:miter/>
            <a:tailEnd len="med" type="arrow" w="med"/>
          </a:ln>
        </p:spPr>
      </p:cxnSp>
      <p:cxnSp>
        <p:nvCxnSpPr>
          <p:cNvPr id="215" name="Straight Arrow Connector 26"/>
          <p:cNvCxnSpPr/>
          <p:nvPr/>
        </p:nvCxnSpPr>
        <p:spPr>
          <a:xfrm>
            <a:off x="3840120" y="4572000"/>
            <a:ext cx="1372320" cy="2160"/>
          </a:xfrm>
          <a:prstGeom prst="straightConnector1">
            <a:avLst/>
          </a:prstGeom>
          <a:ln w="25560">
            <a:solidFill>
              <a:srgbClr val="00b050"/>
            </a:solidFill>
            <a:prstDash val="sysDot"/>
            <a:miter/>
            <a:tailEnd len="med" type="arrow" w="med"/>
          </a:ln>
        </p:spPr>
      </p:cxnSp>
      <p:cxnSp>
        <p:nvCxnSpPr>
          <p:cNvPr id="216" name="Straight Arrow Connector 26"/>
          <p:cNvCxnSpPr/>
          <p:nvPr/>
        </p:nvCxnSpPr>
        <p:spPr>
          <a:xfrm>
            <a:off x="3916440" y="5029200"/>
            <a:ext cx="1372320" cy="2160"/>
          </a:xfrm>
          <a:prstGeom prst="straightConnector1">
            <a:avLst/>
          </a:prstGeom>
          <a:ln w="25560">
            <a:solidFill>
              <a:srgbClr val="00b050"/>
            </a:solidFill>
            <a:prstDash val="sys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Wrapper: Read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6914-462F-403A-A4A7-24389AB0AC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1055520"/>
            <a:ext cx="9144000" cy="5447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fid, did, sid, tid, ran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 dims[], maxDims[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 the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d = H5.H5Fopen( fname, HDF5Constants.H5F_ACC_RDWR,  HDF5Constants.H5P_DEFA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d = H5.H5Dopen(fid, d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d = H5.H5Dget_space(d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d = H5.H5Dget_type(d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nk = H5.H5Sget_simple_extent_ndims(s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ms = new long[ran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Dims = new long[ran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5.H5Sget_simple_extent_dims(sid, dims, maxDim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Data = allocateArray(tid, dim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5.H5Dread( did, tid, HDF5Constants.H5S_ALL, HDF5Constants.H5S_AL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DF5Constants.H5P_DEFAULT, theDat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5.H5Sclose(s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5.H5Tclose(t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5.H5Dclose(d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5.H5Fclose(f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930240" y="1143000"/>
            <a:ext cx="615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egoe Print"/>
              </a:rPr>
              <a:t>Is there an easy w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4775040" y="685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8a54"/>
                </a:solidFill>
                <a:latin typeface="Times New Roman"/>
              </a:rPr>
              <a:t>A very simple ex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 Package: The easy wa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3C93-1520-4AE0-95A1-647F77D1AB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286000" y="2438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Data = Dataset.read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132228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45612"/>
            </a:outerShdw>
          </a:effectLst>
        </p:spPr>
      </p:pic>
      <p:sp>
        <p:nvSpPr>
          <p:cNvPr id="228" name="Oval 23"/>
          <p:cNvSpPr/>
          <p:nvPr/>
        </p:nvSpPr>
        <p:spPr>
          <a:xfrm>
            <a:off x="4343400" y="2438280"/>
            <a:ext cx="1371600" cy="68580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001f3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Content Placeholder 11"/>
          <p:cNvSpPr/>
          <p:nvPr/>
        </p:nvSpPr>
        <p:spPr>
          <a:xfrm>
            <a:off x="952560" y="3809880"/>
            <a:ext cx="67816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velop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to extend for specific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3:56:09Z</dcterms:created>
  <dc:creator>Ruth Aydt</dc:creator>
  <dc:description/>
  <dc:language>en-US</dc:language>
  <cp:lastModifiedBy>Anastasia Alexov</cp:lastModifiedBy>
  <cp:lastPrinted>2010-07-07T19:59:32Z</cp:lastPrinted>
  <dcterms:modified xsi:type="dcterms:W3CDTF">2010-09-14T08:06:14Z</dcterms:modified>
  <cp:revision>186</cp:revision>
  <dc:subject/>
  <dc:title>Slide 1</dc:title>
</cp:coreProperties>
</file>